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612C-7393-4598-ABE1-E22CB8CD2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3DCF-6580-4FDD-ADC4-B6D1C2F5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855C-1A52-46AB-B932-33822E5F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7110-731A-456F-BEBB-D9FEBE808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235D-1D74-45B4-8833-59E75B9E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F31A-CD7E-48D2-896E-CB674635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6888-31B1-4FBB-818D-904C2105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6B22-44CB-4A77-929F-D078B4B5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5DD7-3A13-4EDF-BFC7-8B4FE2A6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6798-E615-44B8-8493-6C128D86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0B43-0D43-496A-93E0-08085689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7878-EAE9-47C3-AE15-13D1F883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304E-07FD-4CF6-A320-C01F83F0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9E89-7AE1-4850-9A3E-64831311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7DD0-B8DB-48D2-A39E-DFAAC443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6E6C-10EF-4662-B4CF-6A88896D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5D44-2572-4EC8-8F1E-53B22BC6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2B5D-4C22-4889-AA97-E2EBBEF7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3AA7-58A3-4B21-9395-9B4324AB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6A9A-7D3D-4E1C-BF04-12870D7B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665B-525A-41F8-8F10-58830F3A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BC09-8DEC-49FE-955A-84153000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241A-CD24-434F-A502-08B50860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2FC9-2CBC-460A-A07F-7FFD3337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cd5f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cd5f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CAA4-9B1B-41C3-BF7F-AEB2A1544D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15BD-1955-44E9-996B-AB225FCAF0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cd5f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cd5f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d5f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cd5f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The Book of Hosea</a:t>
            </a: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39625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d5f4"/>
                </a:solidFill>
                <a:latin typeface="Arial"/>
              </a:rPr>
              <a:t>Quarter 7, Lesson 4</a:t>
            </a:r>
            <a:endParaRPr b="0" lang="en-US" sz="3200" spc="-1" strike="noStrike">
              <a:solidFill>
                <a:srgbClr val="9cd5f4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d5f4"/>
                </a:solidFill>
                <a:latin typeface="Arial"/>
              </a:rPr>
              <a:t>Pages 98-102</a:t>
            </a:r>
            <a:endParaRPr b="0" lang="en-US" sz="3200" spc="-1" strike="noStrike">
              <a:solidFill>
                <a:srgbClr val="9cd5f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A35B-F315-4F8C-8086-54DB5406B4C8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Israel’s Sins and Judgment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s 4-12 deal with Israel’s ungodlines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truth, mercy, or knowledge of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swearing and lying, killing, stealing, committing adultery and drinking new w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broke all re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4 paints a picture that adultery was rampant at this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olatry was the customary reli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relied upon other nations for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ist of sins goes on and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05F1-15A2-47F6-9D43-54868771C2B1}" type="slidenum">
              <a:t>10</a:t>
            </a:fld>
          </a:p>
        </p:txBody>
      </p:sp>
    </p:spTree>
  </p:cSld>
  <p:transition>
    <p:random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9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9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9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9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9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9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Israel’s Sins and Judgment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s 4-12 deal with Israel’s impending judgme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shall not dwell in the Lord’s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ill eat unclean th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nations will devour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ill be cast away from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ill not have a 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494028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lso the high places of Aven, the sin of Israe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hall be destroy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The thorn and thistle shall grow on their altar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They shall say to the mountains, “Cover us!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nd to the hills, “Fall on us!”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Hosea 10: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BAAE-8EFD-4CAD-970F-89DED01A0D42}" type="slidenum">
              <a:t>11</a:t>
            </a:fld>
          </a:p>
        </p:txBody>
      </p:sp>
    </p:spTree>
  </p:cSld>
  <p:transition>
    <p:random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9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9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9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9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9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Seven Principal Steps to Israel’s Downfall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1981080"/>
            <a:ext cx="63244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574617"/>
              </a:gs>
              <a:gs pos="50000">
                <a:srgbClr val="be9932"/>
              </a:gs>
              <a:gs pos="100000">
                <a:srgbClr val="574617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ck of Knowledge (Hosea 4: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2895480"/>
            <a:ext cx="63244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13466c"/>
              </a:gs>
              <a:gs pos="50000">
                <a:srgbClr val="2a99ec"/>
              </a:gs>
              <a:gs pos="100000">
                <a:srgbClr val="13466c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de (Hosea 5:5 &amp; 7:1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3809880"/>
            <a:ext cx="63244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33511d"/>
              </a:gs>
              <a:gs pos="50000">
                <a:srgbClr val="70b040"/>
              </a:gs>
              <a:gs pos="100000">
                <a:srgbClr val="33511d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stability (Hosea 6:4 &amp;13: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724280"/>
            <a:ext cx="63244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314161"/>
              </a:gs>
              <a:gs pos="50000">
                <a:srgbClr val="6b8ed3"/>
              </a:gs>
              <a:gs pos="100000">
                <a:srgbClr val="314161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rldliness (Hosea 7: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54100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Ephraim has mixed himself among the peoples; Ephraim is a cake unturned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4419720"/>
            <a:ext cx="7315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For your faithfulness is like a morning cloud, And like the early dew it goes awa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Like chaff blown off from a threshing floor And like smoke from a chimney.”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2895480"/>
            <a:ext cx="63244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My people are destroyed for lack of knowled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Because you have rejected knowledge, I also will reject you from being priest to me...”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380916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The pride of Israel testifies to his face...”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14CB-6274-4130-8CE6-0DB7D52E3F6F}" type="slidenum">
              <a:t>12</a:t>
            </a:fld>
          </a:p>
        </p:txBody>
      </p:sp>
    </p:spTree>
  </p:cSld>
  <p:transition>
    <p:random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Seven Principal Steps to Israel’s Downfall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1981080"/>
            <a:ext cx="63244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574617"/>
              </a:gs>
              <a:gs pos="50000">
                <a:srgbClr val="be9932"/>
              </a:gs>
              <a:gs pos="100000">
                <a:srgbClr val="574617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rruption (Hosea 9: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2895480"/>
            <a:ext cx="63244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13466c"/>
              </a:gs>
              <a:gs pos="50000">
                <a:srgbClr val="2a99ec"/>
              </a:gs>
              <a:gs pos="100000">
                <a:srgbClr val="13466c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cksliding (Hosea 11: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3809880"/>
            <a:ext cx="63244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33511d"/>
              </a:gs>
              <a:gs pos="50000">
                <a:srgbClr val="70b040"/>
              </a:gs>
              <a:gs pos="100000">
                <a:srgbClr val="33511d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olatry (Hosea 13: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4800600"/>
            <a:ext cx="640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Now they sin more and more, and have made for themselves molded images, idols of their silver, according to their skill.”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3809880"/>
            <a:ext cx="6400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My people are bent on backsliding from Me.  Though they call to the Most High, None at all exalt Him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289548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They are deeply corrupted, As in the days of Gibeah.”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447C-5825-4DD5-81F7-1AA721136818}" type="slidenum">
              <a:t>13</a:t>
            </a:fld>
          </a:p>
        </p:txBody>
      </p:sp>
    </p:spTree>
  </p:cSld>
  <p:transition>
    <p:random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The Prophet’s Last Plea </a:t>
            </a:r>
            <a:r>
              <a:rPr b="0" lang="en-US" sz="2800" spc="-1" strike="noStrike">
                <a:solidFill>
                  <a:srgbClr val="9cd5f4"/>
                </a:solidFill>
                <a:latin typeface="Verdana"/>
              </a:rPr>
              <a:t>(14:1-9)</a:t>
            </a: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ok does not close without God’s offer of forgiveness.  Israel was guilty before God, yet through repentance could have known resto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3505320"/>
            <a:ext cx="7620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O Israel, return to the Lord your God, For you have stumbled because of your iniquit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Take words with you, And return to the Lord.  Say to Him, ‘Take away all iniquity...’” 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Hosea 14:1-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3582000"/>
            <a:ext cx="7121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Who is wise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Let him understand these thing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Who is pruden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Let him know the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For the ways of the Lord are right; The righteous walk in them, But transgressors stumble in them.”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Hosea 14: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45720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I will heal their backsliding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  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I will love them freely..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Hosea 14: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DA0A-3A56-4E3C-A794-8B821CC4B731}" type="slidenum">
              <a:t>14</a:t>
            </a:fld>
          </a:p>
        </p:txBody>
      </p:sp>
    </p:spTree>
  </p:cSld>
  <p:transition>
    <p:random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Theme of the Book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faithful Israel to be cast 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nations to be called in to punish 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ah warned to take heed or face the same f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AC9F-D8DF-4E8B-8312-EB6695559346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Introduction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ea prophesied during the latter part of the reign of Jeroboam II and during the last 40 years of the Northern king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an his work at the peak of Israel’s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jah, Elisha, Jonah and Amos were earlier prophets sent by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younger contemporary of A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older contemporary of Isaiah and Mic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2ECE-86B4-4CCD-BFF7-7C3ABDED96E4}" type="slidenum">
              <a:t>3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Hosea’s Marriage </a:t>
            </a:r>
            <a:r>
              <a:rPr b="0" lang="en-US" sz="2800" spc="-1" strike="noStrike">
                <a:solidFill>
                  <a:srgbClr val="9cd5f4"/>
                </a:solidFill>
                <a:latin typeface="Verdana"/>
              </a:rPr>
              <a:t>(1:1-2)</a:t>
            </a:r>
            <a:endParaRPr b="0" lang="en-US" sz="28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gedy of his broken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told him to marry a woman with an idolatrous 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ea took Gomer as his w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their marriage, she became a harl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 this marriage God wanted to teach Israel a les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used this actual experience as a living illustration of His love for a wayward Israel and of their unfaithfulness to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4CAB-0A3B-47D1-866D-8424EE9303BF}" type="slidenum">
              <a:t>4</a:t>
            </a:fld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Hosea’s Three Children </a:t>
            </a:r>
            <a:r>
              <a:rPr b="0" lang="en-US" sz="2800" spc="-1" strike="noStrike">
                <a:solidFill>
                  <a:srgbClr val="9cd5f4"/>
                </a:solidFill>
                <a:latin typeface="Verdana"/>
              </a:rPr>
              <a:t>(1:3-11)</a:t>
            </a:r>
            <a:endParaRPr b="0" lang="en-US" sz="28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child a son “Jezreel”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 “God shall scatt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child a daughter “Lo-ruha-mah”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 “not (Lo) having obtained mercy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child a son “Lo-Ammi”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 “not (Lo) my peopl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hild was not Hosea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said, 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Call his name Lo-Ammi, for you are not My people, And I will not be your God”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ame reflected the climax of Israel’s f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7DE3-1C76-42D6-A035-90B0ADD99F97}" type="slidenum">
              <a:t>5</a:t>
            </a:fld>
          </a:p>
        </p:txBody>
      </p:sp>
    </p:spTree>
  </p:cSld>
  <p:transition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8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Hosea’s Three Children </a:t>
            </a:r>
            <a:r>
              <a:rPr b="0" lang="en-US" sz="2800" spc="-1" strike="noStrike">
                <a:solidFill>
                  <a:srgbClr val="9cd5f4"/>
                </a:solidFill>
                <a:latin typeface="Verdana"/>
              </a:rPr>
              <a:t>(1:3-11)</a:t>
            </a:r>
            <a:endParaRPr b="0" lang="en-US" sz="28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names also used as a symbol of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uture resto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 the play on words in the following ver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ses 10-11 refer to the future rest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cd5f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s of the living G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cd5f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united under a new lea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:1 uses their names without the “not” or “Lo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cd5f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cd5f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y is sh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9A6D-064B-4797-8D04-A6E2086F68D2}" type="slidenum">
              <a:t>6</a:t>
            </a:fld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9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9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9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9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God’s Unfaithful Nation </a:t>
            </a:r>
            <a:r>
              <a:rPr b="0" lang="en-US" sz="2800" spc="-1" strike="noStrike">
                <a:solidFill>
                  <a:srgbClr val="9cd5f4"/>
                </a:solidFill>
                <a:latin typeface="Verdana"/>
              </a:rPr>
              <a:t>(2:2-23)</a:t>
            </a:r>
            <a:endParaRPr b="0" lang="en-US" sz="28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mparison between Gomer and 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rael would be a disg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rael sought new lovers in the Baal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rael had corrupted the feast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rael would be punis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3352680"/>
            <a:ext cx="6324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he will chase her lover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But not overtake them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Yes, she will seek them, but not find 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Then she will say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 ‘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I will go and return to my first husban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For then it was better for me than now.’”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(Hosea 2: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4191120"/>
            <a:ext cx="662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” 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I will also cause all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her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 mirth to ceas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    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Her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 feast day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    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Her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 New Moon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    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Her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abbaths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    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ll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her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 appointed feasts.”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(Hosea 2:1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3048120"/>
            <a:ext cx="754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 will not have mercy on her childre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 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 they 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the children of harlot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 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 their mother has played the harlo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 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e who conceived them has behaved shameful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 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 she said, ‘I will go after my lover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 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o give 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m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y bread and my wate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 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y wool and my line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 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y oil and my drink.’”  (Hosea 2:4-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41148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I will punish her...”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(Hosea 2: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1EFE-4CAC-4FF7-983F-DEBC314099DD}" type="slidenum">
              <a:t>7</a:t>
            </a:fld>
          </a:p>
        </p:txBody>
      </p:sp>
    </p:spTree>
  </p:cSld>
  <p:transition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God’s Unfaithful Nation </a:t>
            </a:r>
            <a:r>
              <a:rPr b="0" lang="en-US" sz="2800" spc="-1" strike="noStrike">
                <a:solidFill>
                  <a:srgbClr val="9cd5f4"/>
                </a:solidFill>
                <a:latin typeface="Verdana"/>
              </a:rPr>
              <a:t>(2:2-23)</a:t>
            </a:r>
            <a:endParaRPr b="0" lang="en-US" sz="28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’s mer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would lure her 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cd5f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, she will be purged of her wickedn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297180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 “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Therefore, behold, I will allure he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    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Will bring her into the wildernes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    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nd speak comfort to 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    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I will give her her vineyards from ther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    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nd the Valley of Achor as a door of hope...” 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Hosea 2:1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36576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”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For I will take from her mouth the names of the Baal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    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nd they shall be remembered by their name no more.”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Hosea 2:1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90F6-B2A9-49F9-BC0C-7FD483DB496C}" type="slidenum">
              <a:t>8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9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9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Israel Will Return To God </a:t>
            </a:r>
            <a:r>
              <a:rPr b="0" lang="en-US" sz="2800" spc="-1" strike="noStrike">
                <a:solidFill>
                  <a:srgbClr val="9cd5f4"/>
                </a:solidFill>
                <a:latin typeface="Verdana"/>
              </a:rPr>
              <a:t>(3:1-5)</a:t>
            </a:r>
            <a:endParaRPr b="0" lang="en-US" sz="28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ea told to go to his estranged wife, to love her and bring her 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redeemed her, she would prove herself many days with abstine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wise, Israel would be purged of wickedness and then returned to the Lord with a new 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AD46-9445-4322-9364-CF629B82DC99}" type="slidenum">
              <a:t>9</a:t>
            </a:fld>
          </a:p>
        </p:txBody>
      </p: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9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9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23:00:56Z</dcterms:created>
  <dc:creator>Frank D Vines</dc:creator>
  <dc:description/>
  <dc:language>en-US</dc:language>
  <cp:lastModifiedBy>Frank D Vines</cp:lastModifiedBy>
  <dcterms:modified xsi:type="dcterms:W3CDTF">2006-01-18T20:47:30Z</dcterms:modified>
  <cp:revision>16</cp:revision>
  <dc:subject/>
  <dc:title>The Book of Hose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51033</vt:lpwstr>
  </property>
</Properties>
</file>